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E671B-E21D-498F-B81A-E20D23C9E9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95C25-C384-4AC5-B125-960C255F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D4E38-0D02-4DBA-ACAA-D908A85A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C28C7-9532-4DE5-8D71-606677AAB9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423A8-2DBC-4696-A731-9EEA844D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1D88D-A45F-424F-9B8C-40C27B02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8C051-46BB-45B5-932E-9D6E26B5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0BB22-E548-454E-B383-C97886C4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80714-4FDB-457C-B609-AA2D7DC4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6C9F5-7EA3-4A03-95F6-81B9BA88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4C77E-6FFF-4CB0-ADB4-151EC3D8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729BF-D419-4BDC-ABE4-177CEF30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Times New Roman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C90D-5B8B-4720-BE9E-A08F703543FC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robertodemarca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00"/>
                </a:solidFill>
                <a:latin typeface="Verdana"/>
              </a:rPr>
              <a:t>J. Roberto B. de Marca</a:t>
            </a:r>
            <a:br>
              <a:rPr sz="2800"/>
            </a:br>
            <a:r>
              <a:rPr b="1" i="1" lang="pt-BR" sz="2400" spc="-1" strike="noStrike">
                <a:solidFill>
                  <a:srgbClr val="ffff00"/>
                </a:solidFill>
                <a:latin typeface="Verdana"/>
              </a:rPr>
              <a:t>Position Statement</a:t>
            </a:r>
            <a:endParaRPr b="1" lang="en-US" sz="2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n support of Candidacy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2010 President El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gion 8 meeting - Ve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26 April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Documents and Settings\Roberto\My Documents\My Pictures\EuTachikawaOllila.jpg"/>
          <p:cNvPicPr/>
          <p:nvPr/>
        </p:nvPicPr>
        <p:blipFill>
          <a:blip r:embed="rId1"/>
          <a:stretch/>
        </p:blipFill>
        <p:spPr>
          <a:xfrm>
            <a:off x="2743200" y="365040"/>
            <a:ext cx="464832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engthened relations with other board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d joint Sessions with MGA and PSP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Society Membership Adhoc Committee to partner and leverage MGA expertise in addressing society membership decline and value offered to memb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ed with PSPB on timeliness iss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fully worked with EAB to develop a framework for IEEE Certification Busi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-establish contacts with industry leaders to improve the quality of our products to practitioners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ted development of a technology roadmap for IEEE-TA and IEE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s IEEE Vice President, Technical Activities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ly improved the operations of the Society Review Committe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shed the successful solution of long-standing items such as: new conference publications revenue distribution algorithm and policy regarding conference no-show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lue to Memb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 critical issue for many years now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member benefi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y limited services for industry leaders and practitioner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y question: are IEEE products and services making a difference in the professional life of a memb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sential a partnership between MGA and TA to solve this issu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lunteer Satisfa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olunteers are most important IEEE asset. Often taken for granted that they will always be there. Need to nurture this indispensable asset.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Volunteers must continue to have fun in doing their IEEE activ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important to guarantee a conducive environment for volunteer work. Essential to reduce turf battle and power struggles within the organiz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need to bring back industry volunteers and in particular industry lead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the future (3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el Global Orga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EEE still far from achieving this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change perception that IEEE is a US centric organization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adapt structure if wants to be successful. A proactive approach is needed to solve this iss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s to increase sensitivity to differences in culture and political realit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siness objectives cannot take priority if this goal is to be achiev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hallenges for the future (4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Revenue Stre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to reach broad member/customer ba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ed new produ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st products/activities tailored to industry need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EEE Infrastructure costs are high and increasing f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s it difficult to add services and reduce membership fe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y difficult to repurpose staff and adapt to chan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Documents and Settings\Roberto\My Documents\My Pictures\RRR07_Santiago\Durante o almoço.jpg"/>
          <p:cNvPicPr/>
          <p:nvPr/>
        </p:nvPicPr>
        <p:blipFill>
          <a:blip r:embed="rId1"/>
          <a:stretch/>
        </p:blipFill>
        <p:spPr>
          <a:xfrm>
            <a:off x="838080" y="380880"/>
            <a:ext cx="76964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Summary: My Key attribut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ersified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lobalization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nership approach for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llingness to face the tough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get volunteers to work togeth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80ff"/>
                </a:solidFill>
                <a:uFillTx/>
                <a:latin typeface="Verdana"/>
                <a:hlinkClick r:id="rId2"/>
              </a:rPr>
              <a:t>www.robertodemarca.or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What do I bring to the tabl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sive international professional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20 years of comprehensive IEEE volunteer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cessful experience in globalization efforts within IE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experience in academia, industry, government and standard development proces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Thanks!!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Obrigado!!     Gracias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Merci!!   Danke schön!! Shukran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Dank u!!    Kiitti!!   Toda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  </a:t>
            </a: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Spasibo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Verdana"/>
              </a:rPr>
              <a:t>Grazie!!     Dik!!    Dziekuje !!  Tak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</a:rPr>
              <a:t>Professional</a:t>
            </a:r>
            <a:endParaRPr b="1" lang="en-US" sz="3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bright Schol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Ph.D., Univ. of Southern Californ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IEEE Fellow (199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ull member , Brazilian Academy of Science (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Founding President, Brazilian Telecommunications Society (1983 -198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pt-BR" sz="3400" spc="-1" strike="noStrike">
                <a:solidFill>
                  <a:srgbClr val="000000"/>
                </a:solidFill>
                <a:latin typeface="Verdana"/>
              </a:rPr>
              <a:t>Extensive International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ientific Consultant, AT&amp;T Bell Laboratories, Murray Hill,USA (twi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Scientist, NEC Europe Labs., Heidelberg. Germ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iting Professor: Hong Kong Univ. of Science and Technology (China) and Politecnico di Torino (Italy), Telecom Paris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est Scientist: Telecom Italia Labs. (Italy), University of Toronto (Canada), UCLA (USA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d as an Expert for European Commission in evaluating FP6 pro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ff"/>
                </a:solidFill>
                <a:latin typeface="Verdana"/>
              </a:rPr>
              <a:t>Credentials: </a:t>
            </a: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Experience and Government and Academia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3520" y="18284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atholic Univ., Rio de Janeiro (PUC/R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ice-Dean, Science and Engineering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Director of Development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ssociate Academic Vice President for Sponsored Re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hair, Grant Evaluation Committee on Electrical and Biomedical Engineering for National Research Council (4 yea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cientific Director of Brazilian National Research Council, responsible for 300M US$ in gran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mber of Advisory Board, FINEP, Largest Brazilian R&amp;D Funding Agency/Ba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IEEE BoD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Vice President, Technical Activities, Division Director and IEEE Secret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ery Active BoD member: large number of motions sponsored or co-sponsored during my ter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nce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Secretary (2006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: IEEE Audit Committee (Member, Chair); IEEE Sales and 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Membership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(TAB/RAB Section Chapter Support Comm.; Society VP for Membershi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EEE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andard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wards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IEEE Intl. Communication Award Comm (member and Chair); ComSoc Awards Chair; ComSoc Fellow Evaluation Comm. 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trategic Planning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: Chair of IEEE-TA and ComSoc Strategic Planning Committees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80ff"/>
                </a:solidFill>
                <a:latin typeface="Verdana"/>
              </a:rPr>
              <a:t>Credentials:</a:t>
            </a: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 Broad and long-term IEEE experience (2)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ation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mber of PSPB Strategic Planning; TAB Periodical Comm.; Editorial Board, Communications Magaz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erence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EEE Conferences Committee; General Chair of 6 IEEE conferences (Globecom, WCNC, Infoc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7451b"/>
                </a:solidFill>
                <a:latin typeface="Verdana"/>
              </a:rPr>
              <a:t>Summary:</a:t>
            </a:r>
            <a:r>
              <a:rPr b="0" lang="en-US" sz="2400" spc="-1" strike="noStrike">
                <a:solidFill>
                  <a:srgbClr val="a7451b"/>
                </a:solidFill>
                <a:latin typeface="Verdana"/>
              </a:rPr>
              <a:t> I have participated in the activities of 4 IEEE Major Boards in addition to Awards Boar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5582"/>
                </a:solidFill>
                <a:latin typeface="Verdana"/>
              </a:rPr>
              <a:t>Accomplishments as Society President and volunteer</a:t>
            </a:r>
            <a:endParaRPr b="1" lang="en-US" sz="3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ne of the leaders of the successful globalization efforts in the mid-90s that resulted in a significant number of volunteers from ouside US to hold important ComSoc positions, more services to members in Regions 7-10 and eventally have a larger membership from ouside the 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Created a Global Chapter Chair Cong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Membership reached 62000 members, an all time record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ociety had record revenue ye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5582"/>
                </a:solidFill>
                <a:latin typeface="Verdana"/>
              </a:rPr>
              <a:t>Accomplishments as Society President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veloped a coherent package of products and activities for evolving technologie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Strengthned ComSoc leadership in the key telecommunication technology area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partnership with other Societie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to address new technology areas and also improve services to members in Regions 8-1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nhanced web-based product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tablished mechanisms for </a:t>
            </a:r>
            <a:r>
              <a:rPr b="0" i="1" lang="pt-BR" sz="2400" spc="-1" strike="noStrike">
                <a:solidFill>
                  <a:srgbClr val="000000"/>
                </a:solidFill>
                <a:latin typeface="Verdana"/>
              </a:rPr>
              <a:t>interaction with industry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898989"/>
                </a:solidFill>
                <a:latin typeface="Arial"/>
              </a:rPr>
              <a:t>2 April 09</a:t>
            </a: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2 April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23:55:55Z</dcterms:created>
  <dc:creator>Yolanda Paskovich</dc:creator>
  <dc:description/>
  <dc:language>en-US</dc:language>
  <cp:lastModifiedBy>Roberto</cp:lastModifiedBy>
  <dcterms:modified xsi:type="dcterms:W3CDTF">2009-04-21T15:02:16Z</dcterms:modified>
  <cp:revision>245</cp:revision>
  <dc:subject/>
  <dc:title>Slide 1</dc:title>
</cp:coreProperties>
</file>